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59ED-FD84-4EF5-8532-E4FAA19B77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EE37-1DC6-46D5-AEA7-5B9E509D8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E5B8-3FD0-466E-B757-24F300EFE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5A3D-6B99-407A-B349-766191DE4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7E29-F72B-46B3-BFE9-5675E8715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22C-248C-4D9E-AF04-41B0CF52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C8A-29F6-4707-99EB-72AC1617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DDC-87BC-4141-8746-491F51F8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050-4279-4F74-8147-FF209AC3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F9ED-DD5B-4FBA-A83C-2345D5B0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C015-9B56-448F-B8B5-11B9CD58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8D8B-27C6-4D48-AAD2-AF682C44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18D4-D48F-4721-AD50-CC9A193F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13AC-329D-4137-BD61-5B1D683F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FA40-BC49-4BF5-96CF-577DBB31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28DE-D3E2-42BD-9C4D-28D282C4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0B5-5931-4116-B2C9-62C35ECD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C819-D448-4682-9231-036D6EAF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EB3B-F41F-4C9B-88FB-4723A6E1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20C1-02BB-42A1-8C30-9B2DC677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AC97-8080-4EA4-B9E5-69AD3431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7C61-6E51-477A-BD35-EC9C0032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0035-289F-4028-90C8-CE9BE1AD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99BBC-7763-4EE6-AA39-19C3BA2E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17A3-9980-4109-8E5A-8A23D9D6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B984-5D4E-475C-B0D6-684DDF3E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64C4-1AE4-4DA2-9468-D17BC23D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4CB-619D-489A-8E91-666293E1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0C29-DB46-45B3-982C-738C377B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F3F6D-AD9A-43F7-B8A8-4BADCD47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9F30-48A4-4A67-B55A-34939670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8C49-E484-41F8-BD1E-8ED035AE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067B9-EF48-419C-B985-BAF27DA8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54C5-DE29-45CF-89F2-974C88A1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05574-A650-4096-971A-0D62F880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64CF3-06D2-4922-98DB-9257D34F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2D1BF-C0C9-4173-A478-324881EE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1815A-9141-4B7E-9C24-72075F75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BAB-A272-4157-9D31-301F70FB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1395B-ACFD-40A0-8C8B-1C980893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0A085-E8CC-4926-8638-6653559C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EEF4-EBE8-42F0-9137-A9C5B784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9347-1844-4AE0-AB19-9CA703D8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5627C-26D8-4F08-A78B-7686E2D7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818C5-7753-4146-826E-117B27C6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85BCB-EF69-4373-B968-7EBF0A43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CCD7C-F8ED-43DE-B41C-09165064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5AB1-04A6-4BA7-AD13-9F08EFFB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3CA-2723-4064-BDBF-4EC23D5D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4E5-F426-4270-984D-079C7093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AE4-E1B8-4862-AC20-38CC3D78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F94-3D0E-4E41-A743-263C0FEE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145-5295-4C7D-B1E6-6222B197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B461-2E15-4337-86AC-41D91E760BE6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3ACB-7B04-4670-A0FD-65EE4092C1F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4A8A-ACCE-4FB8-A2AF-688590B5E75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0ADE-105F-41E3-B49B-AB3716A3A63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032E-4600-4969-8748-EE74A1746C97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61C5-B63A-4E48-91AF-255C98CBBBA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D52C-C214-4F02-BE2B-0459B51E5439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7932-BF1A-477C-BFF8-8F730625E1B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restandards.org/the-standards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895320"/>
            <a:ext cx="7858080" cy="23781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hode Island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Department of Educ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Fall 201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ELA: ANCHOR STANDARD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2"/>
          <a:srcRect l="16406" t="20487" r="14063" b="5119"/>
          <a:stretch/>
        </p:blipFill>
        <p:spPr>
          <a:xfrm>
            <a:off x="1741320" y="1935000"/>
            <a:ext cx="5661360" cy="438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457200" y="1935000"/>
          <a:ext cx="8229600" cy="1722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7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1c09"/>
                    </a:solidFill>
                  </a:tcPr>
                </a:tc>
              </a:tr>
            </a:tbl>
          </a:graphicData>
        </a:graphic>
      </p:graphicFrame>
      <p:pic>
        <p:nvPicPr>
          <p:cNvPr id="229" name="Picture 10" descr=""/>
          <p:cNvPicPr/>
          <p:nvPr/>
        </p:nvPicPr>
        <p:blipFill>
          <a:blip r:embed="rId3"/>
          <a:srcRect l="20448" t="40139" r="34275" b="48304"/>
          <a:stretch/>
        </p:blipFill>
        <p:spPr>
          <a:xfrm>
            <a:off x="533520" y="2057400"/>
            <a:ext cx="8076960" cy="14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457200" y="2438280"/>
          <a:ext cx="8229600" cy="2027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0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1c09"/>
                    </a:solidFill>
                  </a:tcPr>
                </a:tc>
              </a:tr>
            </a:tbl>
          </a:graphicData>
        </a:graphic>
      </p:graphicFrame>
      <p:pic>
        <p:nvPicPr>
          <p:cNvPr id="231" name="Content Placeholder 3" descr=""/>
          <p:cNvPicPr/>
          <p:nvPr/>
        </p:nvPicPr>
        <p:blipFill>
          <a:blip r:embed="rId4"/>
          <a:srcRect l="21950" t="51380" r="34692" b="35732"/>
          <a:stretch/>
        </p:blipFill>
        <p:spPr>
          <a:xfrm>
            <a:off x="533520" y="2590920"/>
            <a:ext cx="807696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457200" y="3276720"/>
          <a:ext cx="8229600" cy="2255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2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1c09"/>
                    </a:solidFill>
                  </a:tcPr>
                </a:tc>
              </a:tr>
            </a:tbl>
          </a:graphicData>
        </a:graphic>
      </p:graphicFrame>
      <p:pic>
        <p:nvPicPr>
          <p:cNvPr id="233" name="Picture 3" descr=""/>
          <p:cNvPicPr/>
          <p:nvPr/>
        </p:nvPicPr>
        <p:blipFill>
          <a:blip r:embed="rId5"/>
          <a:srcRect l="20832" t="63478" r="34924" b="21694"/>
          <a:stretch/>
        </p:blipFill>
        <p:spPr>
          <a:xfrm>
            <a:off x="533520" y="3429000"/>
            <a:ext cx="807696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457200" y="4800600"/>
          <a:ext cx="8229600" cy="1189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d1c09"/>
                    </a:solidFill>
                  </a:tcPr>
                </a:tc>
              </a:tr>
            </a:tbl>
          </a:graphicData>
        </a:graphic>
      </p:graphicFrame>
      <p:pic>
        <p:nvPicPr>
          <p:cNvPr id="235" name="Picture 3" descr=""/>
          <p:cNvPicPr/>
          <p:nvPr/>
        </p:nvPicPr>
        <p:blipFill>
          <a:blip r:embed="rId6"/>
          <a:srcRect l="21330" t="77384" r="34987" b="16677"/>
          <a:stretch/>
        </p:blipFill>
        <p:spPr>
          <a:xfrm>
            <a:off x="533520" y="4952880"/>
            <a:ext cx="807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9097 L 0 -0.27986 E">
                                      <p:cBhvr>
                                        <p:cTn id="71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How to “talk” about the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ELA Standar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e Literacy Common Core Standards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mbria"/>
              </a:rPr>
              <a:t>as written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do not clearly articulate a set of codes with which to refer 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o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has been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velop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Aide in distinguishing Anchor Standards from Grade-Specific Standar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Ease of “conversation” about the standard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2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necessary for “decoding” the c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Cracking the Literacy “CODE”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trand Code K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Reading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Standard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       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ading Standards for Literatur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ading Standards for Informational Text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ading Standards: Foundational Skill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       R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ading Standards for Literacy in History/Social Studie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ading Standards for Literacy in Science &amp; Technical Subject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Writing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andards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riting Standards for Literacy in History/Social Studies,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H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cience, &amp; Technical</a:t>
            </a: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ubjec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Speaking &amp; Listening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andard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       S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Languag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Standard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How to read a Common Core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 ANCHOR Standard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.CCR.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905120" y="2590920"/>
          <a:ext cx="914400" cy="3715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r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cxnSp>
        <p:nvCxnSpPr>
          <p:cNvPr id="243" name="Straight Arrow Connector 5"/>
          <p:cNvCxnSpPr/>
          <p:nvPr/>
        </p:nvCxnSpPr>
        <p:spPr>
          <a:xfrm>
            <a:off x="2895480" y="2819160"/>
            <a:ext cx="1067760" cy="2293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graphicFrame>
        <p:nvGraphicFramePr>
          <p:cNvPr id="244" name=""/>
          <p:cNvGraphicFramePr/>
          <p:nvPr/>
        </p:nvGraphicFramePr>
        <p:xfrm>
          <a:off x="2666880" y="4267080"/>
          <a:ext cx="3886200" cy="3715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ollege &amp; Career Readiness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cxnSp>
        <p:nvCxnSpPr>
          <p:cNvPr id="245" name="Straight Arrow Connector 9"/>
          <p:cNvCxnSpPr/>
          <p:nvPr/>
        </p:nvCxnSpPr>
        <p:spPr>
          <a:xfrm flipV="1">
            <a:off x="4645440" y="3277800"/>
            <a:ext cx="3960" cy="9151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graphicFrame>
        <p:nvGraphicFramePr>
          <p:cNvPr id="246" name=""/>
          <p:cNvGraphicFramePr/>
          <p:nvPr/>
        </p:nvGraphicFramePr>
        <p:xfrm>
          <a:off x="6248520" y="2895480"/>
          <a:ext cx="2590560" cy="6397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umber assigned to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cxnSp>
        <p:nvCxnSpPr>
          <p:cNvPr id="247" name="Straight Arrow Connector 13"/>
          <p:cNvCxnSpPr/>
          <p:nvPr/>
        </p:nvCxnSpPr>
        <p:spPr>
          <a:xfrm flipH="1" flipV="1">
            <a:off x="5257440" y="3123360"/>
            <a:ext cx="83880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graphicFrame>
        <p:nvGraphicFramePr>
          <p:cNvPr id="248" name=""/>
          <p:cNvGraphicFramePr/>
          <p:nvPr/>
        </p:nvGraphicFramePr>
        <p:xfrm>
          <a:off x="1523880" y="3962520"/>
          <a:ext cx="6477120" cy="1920600"/>
        </p:xfrm>
        <a:graphic>
          <a:graphicData uri="http://schemas.openxmlformats.org/drawingml/2006/table">
            <a:tbl>
              <a:tblPr/>
              <a:tblGrid>
                <a:gridCol w="647712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ading                  College &amp; Career Readiness Anch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raft &amp; Structur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6.  Assess how point of view on purpose shapes the 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nd style of a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How to read a Common Core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Reading Standard</a:t>
            </a:r>
            <a:r>
              <a:rPr b="0" lang="en-US" sz="4000" spc="-1" strike="noStrike">
                <a:solidFill>
                  <a:srgbClr val="04617b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(grade-specific standard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RI.4.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905120" y="3429000"/>
          <a:ext cx="914400" cy="3715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r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191120" y="4572000"/>
          <a:ext cx="914400" cy="3715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Gr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257800" y="2514600"/>
          <a:ext cx="3581280" cy="37152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umber  assigned to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cxnSp>
        <p:nvCxnSpPr>
          <p:cNvPr id="254" name="Straight Arrow Connector 7"/>
          <p:cNvCxnSpPr/>
          <p:nvPr/>
        </p:nvCxnSpPr>
        <p:spPr>
          <a:xfrm>
            <a:off x="2895120" y="3580920"/>
            <a:ext cx="122004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5" name="Straight Arrow Connector 9"/>
          <p:cNvCxnSpPr/>
          <p:nvPr/>
        </p:nvCxnSpPr>
        <p:spPr>
          <a:xfrm flipH="1">
            <a:off x="5028480" y="2894400"/>
            <a:ext cx="1220040" cy="686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56" name="Straight Arrow Connector 12"/>
          <p:cNvCxnSpPr/>
          <p:nvPr/>
        </p:nvCxnSpPr>
        <p:spPr>
          <a:xfrm flipV="1">
            <a:off x="4645440" y="3810960"/>
            <a:ext cx="3960" cy="686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graphicFrame>
        <p:nvGraphicFramePr>
          <p:cNvPr id="257" name=""/>
          <p:cNvGraphicFramePr/>
          <p:nvPr/>
        </p:nvGraphicFramePr>
        <p:xfrm>
          <a:off x="1600200" y="3886200"/>
          <a:ext cx="6095880" cy="2239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3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Reading Informational                                      Grade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Key Ideas &amp; Detail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. Explain events, procedures, ideas or concepts 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 historical, scientific, or technical text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including what happened and why, based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             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specific information in the tex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How to Read a Common Core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Writing Standard </a:t>
            </a:r>
            <a:r>
              <a:rPr b="0" lang="en-US" sz="3200" spc="-1" strike="noStrike">
                <a:solidFill>
                  <a:srgbClr val="04617b"/>
                </a:solidFill>
                <a:latin typeface="Cambria"/>
              </a:rPr>
              <a:t>(grade-specific standard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W.5.1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828800" y="3429000"/>
          <a:ext cx="914400" cy="3715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r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038480" y="4648320"/>
          <a:ext cx="914400" cy="3715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Gr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257800" y="2362320"/>
          <a:ext cx="3581280" cy="63972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umber &amp; Letter  assigned to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cxnSp>
        <p:nvCxnSpPr>
          <p:cNvPr id="263" name="Straight Arrow Connector 7"/>
          <p:cNvCxnSpPr/>
          <p:nvPr/>
        </p:nvCxnSpPr>
        <p:spPr>
          <a:xfrm>
            <a:off x="2819520" y="3580920"/>
            <a:ext cx="1219680" cy="25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4" name="Straight Arrow Connector 9"/>
          <p:cNvCxnSpPr/>
          <p:nvPr/>
        </p:nvCxnSpPr>
        <p:spPr>
          <a:xfrm flipV="1">
            <a:off x="4494600" y="3735000"/>
            <a:ext cx="2520" cy="837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5" name="Straight Arrow Connector 11"/>
          <p:cNvCxnSpPr/>
          <p:nvPr/>
        </p:nvCxnSpPr>
        <p:spPr>
          <a:xfrm flipH="1">
            <a:off x="5028840" y="2970720"/>
            <a:ext cx="1905840" cy="6102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graphicFrame>
        <p:nvGraphicFramePr>
          <p:cNvPr id="266" name=""/>
          <p:cNvGraphicFramePr/>
          <p:nvPr/>
        </p:nvGraphicFramePr>
        <p:xfrm>
          <a:off x="1523880" y="4114800"/>
          <a:ext cx="6096240" cy="24084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4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Writing                                                                        Grade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ambr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Write opinion pieces on topics or texts, supporting a point of view with reasons and inform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.   Introduce a topic or text clearly, state an opinion, and create an organizational structure in which ideas are logically grouped to support the writer’s purpos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How We Achieve an ANCHOR Standard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2"/>
          <a:srcRect l="16406" t="20487" r="14063" b="5119"/>
          <a:stretch/>
        </p:blipFill>
        <p:spPr>
          <a:xfrm>
            <a:off x="1371600" y="1447920"/>
            <a:ext cx="6553080" cy="49035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5"/>
          <p:cNvSpPr/>
          <p:nvPr/>
        </p:nvSpPr>
        <p:spPr>
          <a:xfrm>
            <a:off x="380880" y="3276720"/>
            <a:ext cx="838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3.  Analyze how and why individuals, events, and ideas develop and interact over the course of a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k-2 RL 001 - Copy (2)"/>
          <p:cNvPicPr/>
          <p:nvPr/>
        </p:nvPicPr>
        <p:blipFill>
          <a:blip r:embed="rId3"/>
          <a:stretch/>
        </p:blipFill>
        <p:spPr>
          <a:xfrm>
            <a:off x="304920" y="2057400"/>
            <a:ext cx="8610480" cy="31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k-2 RL 001 - Copy"/>
          <p:cNvPicPr/>
          <p:nvPr/>
        </p:nvPicPr>
        <p:blipFill>
          <a:blip r:embed="rId4"/>
          <a:stretch/>
        </p:blipFill>
        <p:spPr>
          <a:xfrm>
            <a:off x="304920" y="2666880"/>
            <a:ext cx="8534160" cy="2779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25"/>
          <p:cNvSpPr/>
          <p:nvPr/>
        </p:nvSpPr>
        <p:spPr>
          <a:xfrm>
            <a:off x="304920" y="2362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9" descr="k-2 RI 001 - Copy"/>
          <p:cNvPicPr/>
          <p:nvPr/>
        </p:nvPicPr>
        <p:blipFill>
          <a:blip r:embed="rId5"/>
          <a:stretch/>
        </p:blipFill>
        <p:spPr>
          <a:xfrm>
            <a:off x="304920" y="3200400"/>
            <a:ext cx="8534160" cy="371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7"/>
          <p:cNvSpPr/>
          <p:nvPr/>
        </p:nvSpPr>
        <p:spPr>
          <a:xfrm>
            <a:off x="304920" y="2895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formation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1" descr="3-5 RI 001"/>
          <p:cNvPicPr/>
          <p:nvPr/>
        </p:nvPicPr>
        <p:blipFill>
          <a:blip r:embed="rId6"/>
          <a:srcRect l="0" t="17997" r="899" b="10102"/>
          <a:stretch/>
        </p:blipFill>
        <p:spPr>
          <a:xfrm>
            <a:off x="304920" y="3733920"/>
            <a:ext cx="8534160" cy="3045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5"/>
          <p:cNvSpPr/>
          <p:nvPr/>
        </p:nvSpPr>
        <p:spPr>
          <a:xfrm>
            <a:off x="30492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2" descr="3-5RL 001"/>
          <p:cNvPicPr/>
          <p:nvPr/>
        </p:nvPicPr>
        <p:blipFill>
          <a:blip r:embed="rId7"/>
          <a:stretch/>
        </p:blipFill>
        <p:spPr>
          <a:xfrm>
            <a:off x="304920" y="4343400"/>
            <a:ext cx="8610480" cy="5144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7"/>
          <p:cNvSpPr/>
          <p:nvPr/>
        </p:nvSpPr>
        <p:spPr>
          <a:xfrm>
            <a:off x="304920" y="48006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formation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3-5 RI 001 - Copy"/>
          <p:cNvPicPr/>
          <p:nvPr/>
        </p:nvPicPr>
        <p:blipFill>
          <a:blip r:embed="rId8"/>
          <a:stretch/>
        </p:blipFill>
        <p:spPr>
          <a:xfrm>
            <a:off x="304920" y="5105520"/>
            <a:ext cx="8534160" cy="585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6-8 RL 001 - Copy"/>
          <p:cNvPicPr/>
          <p:nvPr/>
        </p:nvPicPr>
        <p:blipFill>
          <a:blip r:embed="rId9"/>
          <a:stretch/>
        </p:blipFill>
        <p:spPr>
          <a:xfrm>
            <a:off x="304920" y="1752480"/>
            <a:ext cx="8610480" cy="320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6-8 RL 001 - Copy (2)"/>
          <p:cNvPicPr/>
          <p:nvPr/>
        </p:nvPicPr>
        <p:blipFill>
          <a:blip r:embed="rId10"/>
          <a:stretch/>
        </p:blipFill>
        <p:spPr>
          <a:xfrm>
            <a:off x="304920" y="2362320"/>
            <a:ext cx="8534160" cy="473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1" descr="6-8RI 001 - Copy"/>
          <p:cNvPicPr/>
          <p:nvPr/>
        </p:nvPicPr>
        <p:blipFill>
          <a:blip r:embed="rId11"/>
          <a:stretch/>
        </p:blipFill>
        <p:spPr>
          <a:xfrm>
            <a:off x="304920" y="3124080"/>
            <a:ext cx="8534160" cy="4636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7"/>
          <p:cNvSpPr/>
          <p:nvPr/>
        </p:nvSpPr>
        <p:spPr>
          <a:xfrm>
            <a:off x="304920" y="2819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formation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304920" y="2057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4" descr="9-12 RL 001 - Copy - Copy"/>
          <p:cNvPicPr/>
          <p:nvPr/>
        </p:nvPicPr>
        <p:blipFill>
          <a:blip r:embed="rId12"/>
          <a:stretch/>
        </p:blipFill>
        <p:spPr>
          <a:xfrm>
            <a:off x="304920" y="3733920"/>
            <a:ext cx="8610480" cy="3283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25"/>
          <p:cNvSpPr/>
          <p:nvPr/>
        </p:nvSpPr>
        <p:spPr>
          <a:xfrm>
            <a:off x="304920" y="3962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6" descr="9-12 RL 001 - Copy"/>
          <p:cNvPicPr/>
          <p:nvPr/>
        </p:nvPicPr>
        <p:blipFill>
          <a:blip r:embed="rId13"/>
          <a:stretch/>
        </p:blipFill>
        <p:spPr>
          <a:xfrm>
            <a:off x="304920" y="4343400"/>
            <a:ext cx="8610480" cy="3999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7"/>
          <p:cNvSpPr/>
          <p:nvPr/>
        </p:nvSpPr>
        <p:spPr>
          <a:xfrm>
            <a:off x="3049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formation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8" descr="9-12 RI 001 - Copy"/>
          <p:cNvPicPr/>
          <p:nvPr/>
        </p:nvPicPr>
        <p:blipFill>
          <a:blip r:embed="rId14"/>
          <a:stretch/>
        </p:blipFill>
        <p:spPr>
          <a:xfrm>
            <a:off x="304920" y="5029200"/>
            <a:ext cx="8534160" cy="390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0" descr="6-12 H-SS - Copy"/>
          <p:cNvPicPr/>
          <p:nvPr/>
        </p:nvPicPr>
        <p:blipFill>
          <a:blip r:embed="rId15"/>
          <a:stretch/>
        </p:blipFill>
        <p:spPr>
          <a:xfrm>
            <a:off x="304920" y="4191120"/>
            <a:ext cx="8610480" cy="390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2" descr="6-12 H-SS - Copy (2)"/>
          <p:cNvPicPr/>
          <p:nvPr/>
        </p:nvPicPr>
        <p:blipFill>
          <a:blip r:embed="rId16"/>
          <a:stretch/>
        </p:blipFill>
        <p:spPr>
          <a:xfrm>
            <a:off x="304920" y="4800600"/>
            <a:ext cx="8610480" cy="5857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8"/>
          <p:cNvSpPr/>
          <p:nvPr/>
        </p:nvSpPr>
        <p:spPr>
          <a:xfrm>
            <a:off x="172800" y="54100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teracy for Science and Technical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4" descr="6-12 S&amp; TS - Copy"/>
          <p:cNvPicPr/>
          <p:nvPr/>
        </p:nvPicPr>
        <p:blipFill>
          <a:blip r:embed="rId17"/>
          <a:stretch/>
        </p:blipFill>
        <p:spPr>
          <a:xfrm>
            <a:off x="304920" y="5715000"/>
            <a:ext cx="8610480" cy="6066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9"/>
          <p:cNvSpPr/>
          <p:nvPr/>
        </p:nvSpPr>
        <p:spPr>
          <a:xfrm>
            <a:off x="228600" y="44956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teracy in History/Soci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228600" y="3657600"/>
            <a:ext cx="8686800" cy="764280"/>
          </a:xfrm>
          <a:prstGeom prst="rect">
            <a:avLst/>
          </a:prstGeom>
          <a:solidFill>
            <a:srgbClr val="990000"/>
          </a:solidFill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iteracy in History/Social Studies, Science and Technical Su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6667 E">
                                      <p:cBhvr>
                                        <p:cTn id="306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00417 -0.29051 E">
                                      <p:cBhvr>
                                        <p:cTn id="435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0 -0.28218 E">
                                      <p:cBhvr>
                                        <p:cTn id="437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-0.00416 -0.29583 E">
                                      <p:cBhvr>
                                        <p:cTn id="43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85185E-006 L -0.00417 -0.28218 E">
                                      <p:cBhvr>
                                        <p:cTn id="44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 -0.28403 E">
                                      <p:cBhvr>
                                        <p:cTn id="443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n your own…then report o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ich course(s) are you thinking of checking/revising for transition alignment to the Common Cor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you need to read one or more standards more carefully?  Or are you ready to begin examining the syllabus you’ve brough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ing—Writing—Speaking/Listening—Language and Appendices A, B and C (on flashdrive or online, if need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out current thinking/questions in 20-25 minu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  </a:t>
            </a: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Common Core State Standards</a:t>
            </a:r>
            <a:r>
              <a:rPr b="0" lang="en-US" sz="5000" spc="-1" strike="noStrike">
                <a:solidFill>
                  <a:srgbClr val="04617b"/>
                </a:solidFill>
                <a:latin typeface="Cambria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mbria"/>
              </a:rPr>
              <a:t>The Standards define the knowledge and skills students should have within their K-12 education careers so that they will graduate from high school able to succeed in entry-level, credit-bearing academic college courses and in workforce training program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mbria"/>
              </a:rPr>
              <a:t>K-12 Stand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Mathema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English Language A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(Reading, Writing, Speaking &amp; Listening, Languag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ncludes: </a:t>
            </a:r>
            <a:r>
              <a:rPr b="0" i="1" lang="en-US" sz="2300" spc="-1" strike="noStrike">
                <a:solidFill>
                  <a:srgbClr val="000000"/>
                </a:solidFill>
                <a:latin typeface="Cambria"/>
              </a:rPr>
              <a:t>Literacy in History/Social Studies, Science, and Technical Subjects, 6-12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The Common Core State Standards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re aligned with college and workforce expectation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re clear, understandable and consisten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Include rigorous content and application of knowledge through high-order skill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Build upon strengths and lessons of current state standard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re informed by standards in other top performing countries, so that all students are prepared to succeed in our global economy and society; 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re evidence-bas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Common Core: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 English Language Arts Standard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1731960" y="1935000"/>
          <a:ext cx="5680080" cy="438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1960" y="1935000"/>
                    <a:ext cx="568008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ELA: Design &amp; Organ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ree Se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K-5 (cross-disciplinar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6-12 English Language 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6-12 Literacy in History/Social Studies, Science, &amp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echnical Subje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ree Append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: Research and evidence; gloss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: Reading text exemplars; sample performance ta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: Annotated student writing s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mbria"/>
              </a:rPr>
              <a:t>Available at: </a:t>
            </a:r>
            <a:r>
              <a:rPr b="0" lang="en-US" sz="1900" spc="-1" strike="noStrike" u="sng">
                <a:solidFill>
                  <a:srgbClr val="e2d700"/>
                </a:solidFill>
                <a:uFillTx/>
                <a:latin typeface="Cambria"/>
                <a:hlinkClick r:id="rId2"/>
              </a:rPr>
              <a:t>http://www.corestandards.org/the-standards</a:t>
            </a:r>
            <a:r>
              <a:rPr b="1" lang="en-US" sz="1900" spc="-1" strike="noStrike">
                <a:solidFill>
                  <a:srgbClr val="009dd9"/>
                </a:solidFill>
                <a:latin typeface="Cambr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ELA: Design &amp; Organ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 Strand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AKING &amp; LISTE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ELA: Design &amp; Organ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 Strands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(continued)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295280" y="3200400"/>
          <a:ext cx="2590920" cy="143208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15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mbria"/>
                        </a:rPr>
                        <a:t>K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Inform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Foundational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486400" y="3200400"/>
          <a:ext cx="2514600" cy="143208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5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mbria"/>
                        </a:rPr>
                        <a:t>6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Lit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Inform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Literary nonfi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048120" y="5105520"/>
          <a:ext cx="3200400" cy="115884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mbria"/>
                        </a:rPr>
                        <a:t>6-12 Literacy in Content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Inform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(Content Specif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ELA: Design &amp; Organ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ur Strands </a:t>
            </a: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(continued)…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201"/>
              </a:spcBef>
              <a:buClr>
                <a:srgbClr val="0f6fc6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rit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Argument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Informative/explanatory text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Narrativ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2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peaking and Listen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Comprehension and collabor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Presentation of knowledge and idea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2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anguag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Knowledge of languag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45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Vocabulary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mbria"/>
              </a:rPr>
              <a:t>ELA: Design &amp; Organiza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ollege and Career Readiness (CCR) ANCHOR Stand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road expectations consistent across grades and content ar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ed on evidence about  college and workforce training expec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rcRect l="16406" t="20487" r="14063" b="5119"/>
          <a:stretch/>
        </p:blipFill>
        <p:spPr>
          <a:xfrm>
            <a:off x="4648320" y="2571840"/>
            <a:ext cx="40384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0:53:03Z</dcterms:created>
  <dc:creator>carnpa</dc:creator>
  <dc:description/>
  <dc:language>en-US</dc:language>
  <cp:lastModifiedBy>Diane Kern</cp:lastModifiedBy>
  <cp:lastPrinted>2012-11-05T02:36:12Z</cp:lastPrinted>
  <dcterms:modified xsi:type="dcterms:W3CDTF">2012-11-05T21:08:26Z</dcterms:modified>
  <cp:revision>227</cp:revision>
  <dc:subject/>
  <dc:title>Slide 1</dc:title>
</cp:coreProperties>
</file>